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76092"/>
                </a:solidFill>
                <a:latin typeface="Calibri"/>
              </a:rPr>
              <a:t>Click to move the slide</a:t>
            </a:r>
            <a:endParaRPr b="1" lang="en-US" sz="60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2A511-6171-4D0B-9B1B-16FB49F76593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76448-A955-43A5-AF06-35E58980A77A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17819-B689-414D-85FD-FDAE100AE2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B39BF-7DF4-44DA-AB83-23A93CB85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A2090-683C-49E0-A1D5-3BD03CDA33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76D44-05C0-433E-8F72-6028700041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EA9F7-A289-4096-A382-2ED95B388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8AA28-8D0C-4F96-8393-5B56787AF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4F2D2-8E2F-4966-A10D-1700D82B7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A4C5D-A02C-468C-BE28-AE37525C7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F974D-BCE9-4631-B0C1-90E94B1C6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E4AAA-F681-430B-A8A5-53E1CA397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67350-0D8A-48D2-A670-652932A61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112A6-DE1A-479C-B7BC-BD102C142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76092"/>
                </a:solidFill>
                <a:latin typeface="Calibri"/>
              </a:rPr>
              <a:t>Click to edit the title text format</a:t>
            </a:r>
            <a:endParaRPr b="1" lang="en-US" sz="60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EB7C2-E6D7-4F96-9B9D-7E1684336082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C:\Users\sfg\Dropbox\hotel stars logo.jpg"/>
          <p:cNvPicPr/>
          <p:nvPr/>
        </p:nvPicPr>
        <p:blipFill>
          <a:blip r:embed="rId1"/>
          <a:stretch/>
        </p:blipFill>
        <p:spPr>
          <a:xfrm>
            <a:off x="1187280" y="907920"/>
            <a:ext cx="6356520" cy="418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800" spc="-1" strike="noStrike">
                <a:solidFill>
                  <a:srgbClr val="376092"/>
                </a:solidFill>
                <a:latin typeface="Calibri"/>
              </a:rPr>
              <a:t>Wzorce komunikacyjne - charyzmatyczny łącznik</a:t>
            </a:r>
            <a:endParaRPr b="1" lang="en-US" sz="48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108000" y="1773360"/>
            <a:ext cx="8928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Aktywnie krąży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angażuje innych w krótkie, wysokoenergetyczne rozmowy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demokratycznie dzieli swój czas między różnych członków zespołu – kontaktuje się ze wszystkimi jednakowo i dba o to, by każdy członek zespołu miał szansę wnieść swój udział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nie zawsze jest ekstrawertyczny, choć na ogół nie ma kłopotów z nawiązywaniem kontaktów z ludźmi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co najmniej tyle samo czasu poświęca słuchaniu co mówieniu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koncentruje swoją uwagę na osobie, której słucha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Alex „Sandy” Pentland: Nowe odkrycia na temat budowania doskonałych  zespołów w: Harvard Business Review Polska. Październik 2014, Artykuł numer R1204C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6000" spc="-1" strike="noStrike">
                <a:solidFill>
                  <a:srgbClr val="376092"/>
                </a:solidFill>
                <a:latin typeface="Calibri"/>
              </a:rPr>
              <a:t>Praca zespołowa</a:t>
            </a:r>
            <a:endParaRPr b="1" lang="en-US" sz="60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898989"/>
                </a:solidFill>
                <a:latin typeface="Calibri"/>
              </a:rPr>
              <a:t>Założenia pracy zespołowej; jej wady i zalety, cechy skutecznego zespołu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6000" spc="-1" strike="noStrike">
                <a:solidFill>
                  <a:srgbClr val="376092"/>
                </a:solidFill>
                <a:latin typeface="Calibri"/>
              </a:rPr>
              <a:t>Czym jest zespół?</a:t>
            </a:r>
            <a:endParaRPr b="1" lang="en-US" sz="60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Zespół  to grupa ludzi, którzy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posiadają wspólny cel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współpracują ze sobą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zależą wzajemnie od siebie; sukces każdego zależy od sukcesu zespołu, a sukces zespołu zależy od każdego z nich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2" descr="http://free.clipartof.com/7-Free-Teamwork-Clip-Art-Of-A-Circle-Of-Diverse-People-Holding-Hands.jpg"/>
          <p:cNvPicPr/>
          <p:nvPr/>
        </p:nvPicPr>
        <p:blipFill>
          <a:blip r:embed="rId1"/>
          <a:stretch/>
        </p:blipFill>
        <p:spPr>
          <a:xfrm>
            <a:off x="7215120" y="2060640"/>
            <a:ext cx="1214640" cy="12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5400" spc="-1" strike="noStrike">
                <a:solidFill>
                  <a:srgbClr val="376092"/>
                </a:solidFill>
                <a:latin typeface="Calibri"/>
              </a:rPr>
              <a:t>Założenia pracy zespołowej</a:t>
            </a:r>
            <a:endParaRPr b="1" lang="en-US" sz="5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Diagram 3" descr=""/>
          <p:cNvPicPr/>
          <p:nvPr/>
        </p:nvPicPr>
        <p:blipFill>
          <a:blip r:embed="rId1"/>
          <a:stretch/>
        </p:blipFill>
        <p:spPr>
          <a:xfrm>
            <a:off x="901800" y="1616040"/>
            <a:ext cx="7199280" cy="423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6000" spc="-1" strike="noStrike">
                <a:solidFill>
                  <a:srgbClr val="376092"/>
                </a:solidFill>
                <a:latin typeface="Calibri"/>
              </a:rPr>
              <a:t>Zalety pracy zespołowej</a:t>
            </a:r>
            <a:endParaRPr b="1" lang="en-US" sz="60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73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Calibri"/>
              </a:rPr>
              <a:t>Umiejętności i wiedza członków grupy, sumując się i wzmacniając, powodują </a:t>
            </a:r>
            <a:r>
              <a:rPr b="1" lang="pl-PL" sz="2600" spc="-1" strike="noStrike" u="sng">
                <a:solidFill>
                  <a:srgbClr val="000000"/>
                </a:solidFill>
                <a:uFillTx/>
                <a:latin typeface="Calibri"/>
              </a:rPr>
              <a:t>efekt synergii </a:t>
            </a:r>
            <a:r>
              <a:rPr b="0" lang="pl-PL" sz="2600" spc="-1" strike="noStrike">
                <a:solidFill>
                  <a:srgbClr val="000000"/>
                </a:solidFill>
                <a:latin typeface="Calibri"/>
              </a:rPr>
              <a:t>(1+1&gt;2),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Calibri"/>
              </a:rPr>
              <a:t>zwiększa się efektywność pracy jednostki poprzez ograniczenie ryzyka indywidualnych błędów,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Calibri"/>
              </a:rPr>
              <a:t>członkowie zespołu doskonalą umiejętność prowadzenia dialogu i otwartą komunikację umożliwiającą specjalizację działań,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Calibri"/>
              </a:rPr>
              <a:t>jest szansa na wymianę doświadczeń, rozwój członków zespołu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4" descr="http://blog.vavia.in/wp-content/uploads/2011/01/259.jpg"/>
          <p:cNvPicPr/>
          <p:nvPr/>
        </p:nvPicPr>
        <p:blipFill>
          <a:blip r:embed="rId1"/>
          <a:stretch/>
        </p:blipFill>
        <p:spPr>
          <a:xfrm>
            <a:off x="7215120" y="3500280"/>
            <a:ext cx="1571760" cy="15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700" spc="-1" strike="noStrike">
                <a:solidFill>
                  <a:srgbClr val="000000"/>
                </a:solidFill>
                <a:latin typeface="Calibri"/>
              </a:rPr>
              <a:t>Proces podejmowania decyzji przez zespół bywa bardziej długotrwały i kosztowny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700" spc="-1" strike="noStrike">
                <a:solidFill>
                  <a:srgbClr val="000000"/>
                </a:solidFill>
                <a:latin typeface="Calibri"/>
              </a:rPr>
              <a:t>W nieskutecznych zespołach może dojść do „paraliżu decyzyjnego”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700" spc="-1" strike="noStrike">
                <a:solidFill>
                  <a:srgbClr val="000000"/>
                </a:solidFill>
                <a:latin typeface="Calibri"/>
              </a:rPr>
              <a:t>W niektórych sytuacjach wadą może być również rozproszona odpowiedzialność, która powoduje, że zespoły mają większą skłonność do podejmowania nadmiernego ryzyka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pl-PL" sz="2400" spc="-1" strike="noStrike">
                <a:solidFill>
                  <a:srgbClr val="000000"/>
                </a:solidFill>
                <a:latin typeface="Calibri"/>
              </a:rPr>
              <a:t>Doceniając zalety pracy zespołowej radziłbym zastępować ją pracą indywidualną przy prostych, standardowych działaniach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Grzegorz Wazowicz 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– Senior Manager, 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Carrefour Polsk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Tytuł 1"/>
          <p:cNvSpPr/>
          <p:nvPr/>
        </p:nvSpPr>
        <p:spPr>
          <a:xfrm>
            <a:off x="0" y="18900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376092"/>
                </a:solidFill>
                <a:latin typeface="Calibri"/>
                <a:ea typeface="Arial"/>
              </a:rPr>
              <a:t>Opinia praktyka – wady zespołowego podejmowania decyzji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584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5400" spc="-1" strike="noStrike">
                <a:solidFill>
                  <a:srgbClr val="376092"/>
                </a:solidFill>
                <a:latin typeface="Calibri"/>
              </a:rPr>
              <a:t>Cechy skutecznego zespołu</a:t>
            </a:r>
            <a:endParaRPr b="1" lang="en-US" sz="5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Przyjaźń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rozluźniona atmosfera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prowadzenie szerokich dyskusji, tematycznie związanych z  realizowanym zadaniem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cele i zadania są zrozumiałe dla członków zespołu i są przez nich akceptowane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zespół słucha krytycznych opinii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przywódca nie dominuje nad pozostałymi członkami zespołu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AutoShape 2"/>
          <p:cNvSpPr/>
          <p:nvPr/>
        </p:nvSpPr>
        <p:spPr>
          <a:xfrm>
            <a:off x="155520" y="-2971800"/>
            <a:ext cx="6191280" cy="619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2" descr="D:\Data\awinniczuk\AppData\Local\Microsoft\Windows\Temporary Internet Files\Content.IE5\W70HUXLV\dglxasset[1].aspx"/>
          <p:cNvPicPr/>
          <p:nvPr/>
        </p:nvPicPr>
        <p:blipFill>
          <a:blip r:embed="rId1"/>
          <a:stretch/>
        </p:blipFill>
        <p:spPr>
          <a:xfrm>
            <a:off x="3635280" y="5013360"/>
            <a:ext cx="1693800" cy="129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 txBox="1"/>
          <p:nvPr/>
        </p:nvSpPr>
        <p:spPr>
          <a:xfrm>
            <a:off x="250920" y="11970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Calibri"/>
              </a:rPr>
              <a:t>Alex „Sandy” Pentland przeprowadził badania zespołów z wykorzystaniem czujników socjometrycznych o kształcie plakietki lub odznaki, służących do zbierania danych na temat zachowań ludzkich podczas konwersacji - jej czasu, używanej podczas niej energii, zmienności sposobu mówienia oraz język ciała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Calibri"/>
              </a:rPr>
              <a:t>W ramach zebranych danych Pentland był w stanie wyróżnić wzorce komunikacyjne charakteryzujące skuteczne zespoły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Calibri"/>
              </a:rPr>
              <a:t>Analizując wzorce komunikacji zepsołów </a:t>
            </a:r>
            <a:r>
              <a:rPr b="1" lang="pl-PL" sz="2200" spc="-1" strike="noStrike">
                <a:solidFill>
                  <a:srgbClr val="000000"/>
                </a:solidFill>
                <a:latin typeface="Calibri"/>
              </a:rPr>
              <a:t>(bez analizy treści komunikacji)</a:t>
            </a:r>
            <a:r>
              <a:rPr b="0" lang="pl-PL" sz="2200" spc="-1" strike="noStrike">
                <a:solidFill>
                  <a:srgbClr val="000000"/>
                </a:solidFill>
                <a:latin typeface="Calibri"/>
              </a:rPr>
              <a:t> autorzy eksperymentu umieli ocenić skuteczność zespołu z większą trafnością niż na podstawie tradycyjnych metod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Calibri"/>
              </a:rPr>
              <a:t>Okazało się, ze wzorce komunikacji są ważniejsze niż umiejętności i inteligencja oraz wszystkie inne czynniki, uwzględniane przy tworzeniu zespołów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-108000" y="399600"/>
            <a:ext cx="9252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800" spc="-1" strike="noStrike">
                <a:solidFill>
                  <a:srgbClr val="376092"/>
                </a:solidFill>
                <a:latin typeface="Calibri"/>
              </a:rPr>
              <a:t>Nowe odkrycia dotyczące zespołów</a:t>
            </a:r>
            <a:br>
              <a:rPr sz="4800"/>
            </a:br>
            <a:endParaRPr b="1" lang="en-US" sz="4800" spc="-1" strike="noStrike">
              <a:solidFill>
                <a:srgbClr val="376092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 txBox="1"/>
          <p:nvPr/>
        </p:nvSpPr>
        <p:spPr>
          <a:xfrm>
            <a:off x="394920" y="1268280"/>
            <a:ext cx="843588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Pentland twierdzi, że najlepszymi wskaźnikami wydajności zespołu są energia i zaangażowanie manifestowane poza oficjalnymi zebraniami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Uważa, że najbardziej wartościową formą kontaktu jest komunikacja bezpośrednia. Najmniej – e-mail i SMS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Pentland stworzył również wzorzec idealnego gracza zespołowego. Odchodzi od określenia go jako „urodzonego przywódcy” na rzecz „charyzmatycznego łącznika”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-108000" y="399600"/>
            <a:ext cx="9252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800" spc="-1" strike="noStrike">
                <a:solidFill>
                  <a:srgbClr val="376092"/>
                </a:solidFill>
                <a:latin typeface="Calibri"/>
              </a:rPr>
              <a:t>Nowe odkrycia dotyczące zespołów</a:t>
            </a:r>
            <a:br>
              <a:rPr sz="4800"/>
            </a:br>
            <a:endParaRPr b="1" lang="en-US" sz="4800" spc="-1" strike="noStrike">
              <a:solidFill>
                <a:srgbClr val="376092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08T15:53:37Z</dcterms:created>
  <dc:creator>sfg</dc:creator>
  <dc:description/>
  <dc:language>en-US</dc:language>
  <cp:lastModifiedBy>User</cp:lastModifiedBy>
  <dcterms:modified xsi:type="dcterms:W3CDTF">2014-04-12T21:07:52Z</dcterms:modified>
  <cp:revision>12</cp:revision>
  <dc:subject/>
  <dc:title>Slajd 1</dc:title>
</cp:coreProperties>
</file>